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CD0D-C280-4FCD-91DA-BBEE02968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EF8C-6B45-4074-92FE-D8F1CE7D3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5215-7795-4844-A7DD-89D94FF66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F74B-81BF-471B-AE1C-729888F01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78DA5-2FE4-4D3D-B8AF-02837C398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DB400-DCEA-4BA5-A3B1-B81A02A49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CE2A7-8204-4488-9DCA-C9448787C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47EED-57C4-48CB-AA33-CC723BEC2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F60CA-327C-4824-9719-26AA91CA1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81A15-AE3F-45EE-B234-8E47F9AA3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2228C-21DB-4CF7-AA52-413FCD04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84F4-4B0C-462D-B1A8-DB33712E1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92B53-A412-45EC-8079-4B6BC150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9DFC4-0F61-485F-9F6F-A1D91D8C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62C44-9DC8-446F-B83F-96AB5A238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CC82E-FB44-4C22-9BB8-DF515495E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7D80E-49B1-4B86-98DF-942080968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E1F1-383C-411B-BB94-0D5823497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8E1D-A148-450B-BAD1-B98F558C9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F7E8-4E08-4DBE-AD3D-8BC18694B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B986-62FD-4914-912D-BA9C7954B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C43C-F7A2-4F23-807F-12C1624C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7D19-1ACC-40C0-8EDC-4D68A18A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14B6-0E6A-425A-91E2-59814F3F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8BEB7-28BB-4339-8A20-E2C83535636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D87A6-E0C6-4953-B4E7-8EABA9BF3BB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1332000" y="1644480"/>
          <a:ext cx="4214880" cy="488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644480"/>
                    <a:ext cx="4214880" cy="488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5640" y="342720"/>
            <a:ext cx="7488360" cy="1150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17 ГОД И ПЛАНОВЫЙ ПЕРИОД 2018-2019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6-10-31T06:13:30Z</dcterms:modified>
  <cp:revision>38</cp:revision>
  <dc:subject/>
  <dc:title>Структура собственных доходов на 2016 год бюджета Дальнереченского городского округа</dc:title>
</cp:coreProperties>
</file>